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5D3A-3937-4C0C-B07D-36ACDB4956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F694-DB6F-4F2A-82C7-F1D4F33622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1D2-AF6A-428D-8675-F658D97D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AB6-135C-4FB6-A0D5-521C6AB4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3099-5064-4485-AEFF-6A5B8B78A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BA3-0C31-44DF-95D0-36D5BB446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B4B8-F43B-45F6-9CBC-4C63C260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D073-1F08-4125-992E-6B95F793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A7223-E0DF-4EAF-86F3-D78D62D2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198B4-2BA8-4119-A726-FAB4B3EF4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10E5-4F55-41A6-91F6-7EE0B4DA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BCA1-A417-4C3B-8812-82101826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310-E701-4E16-8954-07229D22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CAE-5EA1-4AC5-A4A8-F9A223A4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773D-7F34-44A8-AE93-80AC8B835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82FAC-1D48-4675-8E18-2CD3A726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354F1-5F5E-49AE-8215-7EE94EA4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4A6E-0354-4659-ADB1-584E7A67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11228-7F04-45A2-8DA8-5DEA28FE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5794B-DD00-4B65-A6E8-4B7966B12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3CA8-5193-473C-9DC9-F54A8E22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40C14-62FA-4643-B633-B34D1281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611A-F55D-4239-AAC7-26C50A80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2AD6-224B-4D9C-85B9-49B8939A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C60-93F8-41D5-9D88-BCE19F5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0ADA2-8648-4A01-AA24-C85CB5F36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0B402-EA51-4DE5-B2E1-5729F7A2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9146-A62C-43EB-8555-2236B178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34EC4-6131-4CA0-B3A0-DB42E44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00B36-6D85-4857-91EA-DF10D421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3E02E-888F-41A3-8B2B-B0C288A0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484D7-4188-4E88-9ADE-6431AF93E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37A7F-1233-4FE7-98BD-119DF15D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3F327-79D6-4163-977F-ED056AEC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CBF82-459F-498B-BD60-EFE8BCB3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AB05-A907-4B4B-BB5A-737F5FE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EDDD4-83E2-4413-AB42-3BD1E46AE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9D807-2962-48BF-A0C6-2E88C8E5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310EA-9A68-440E-8897-41ADFE100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4DC7-1FD4-4659-B1B2-7FECB4E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48124-0D88-4A53-A748-5BE364EA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FA7A-6D6B-4E3A-8781-371CF8A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16F5C-88D4-4FEC-956A-D073620F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01100-956F-4F1D-BBC5-D987C4425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F673-5D37-4B31-A835-CF00D400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D646C-2BB2-43BE-9CF9-73E3F604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52AF-CBC9-43E8-B40A-B43D7513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6533D-F903-4094-91DC-3B2EEA2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C2CA3-1763-4367-ACC3-16DFA92A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C8BF-4221-41AF-A023-FF88AFB3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BBE45-B33B-4445-8D19-2F694618D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71DC6-B938-4FD2-9E63-F3389759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E4BBC-8A51-4713-BA6A-335567B3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135AB-0D1A-42E1-BC3F-5A5E9376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590D5-79E7-4266-907C-69AE3AC0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7943E-A9D7-406A-B05A-F0677681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98C86-2F18-4297-9C55-222244DB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A66-16F4-4FC7-AF36-18C1F7F8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1AC3-75C3-4DB5-815C-4FEFA892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5310-7BE5-4F85-8F11-B9A6406D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A90-563B-494B-A5AE-1CD87761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39EE-11E7-4F33-9816-EF11CFF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6A3B7-ECAB-4B7A-9D61-95248B4B031F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62DE-63CA-4583-8AD7-28ABE181334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7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0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5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5767-04C8-4C3B-A10D-6F9210CC7A71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760F-82AE-420B-A470-EB803C40002F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9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00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0F02-4382-408E-A790-5FFF7E9A1ABD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9587-40ED-4617-8747-04152A6F626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4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45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4959-27F4-4A9F-87F0-9AB04BB2C50C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F7D7-AD45-4ECA-9B3F-52DBC872200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0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91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93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F24-5735-4FA3-B6BE-D4EC70FDF4CF}" type="datetime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4BE8-C81E-40FF-BCCD-305F97ECDB9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b6431"/>
                </a:solidFill>
                <a:latin typeface="Verdana"/>
              </a:rPr>
              <a:t>Половое размножение растений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6-й клас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9766f"/>
                </a:solidFill>
                <a:latin typeface="Verdana"/>
              </a:rPr>
              <a:t>МОУ СОШ №1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79766f"/>
                </a:solidFill>
                <a:latin typeface="Verdana"/>
              </a:rPr>
              <a:t>Дельмухаметова Л.И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D:\All_f\Tema\Art\Nature\1117.jpg"/>
          <p:cNvPicPr/>
          <p:nvPr/>
        </p:nvPicPr>
        <p:blipFill>
          <a:blip r:embed="rId1"/>
          <a:stretch/>
        </p:blipFill>
        <p:spPr>
          <a:xfrm>
            <a:off x="357120" y="3571920"/>
            <a:ext cx="3929040" cy="29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TextBox 4"/>
          <p:cNvSpPr/>
          <p:nvPr/>
        </p:nvSpPr>
        <p:spPr>
          <a:xfrm>
            <a:off x="642960" y="121428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пыление – это процесс переноса пыльцы с тычинки на рыльце пест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C33B-AFD4-48BA-8872-D3D60C40ADD2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" name="Picture 11" descr="opilehie"/>
          <p:cNvPicPr/>
          <p:nvPr/>
        </p:nvPicPr>
        <p:blipFill>
          <a:blip r:embed="rId1"/>
          <a:stretch/>
        </p:blipFill>
        <p:spPr>
          <a:xfrm>
            <a:off x="1214280" y="2500200"/>
            <a:ext cx="6769080" cy="23115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7"/>
          <p:cNvSpPr/>
          <p:nvPr/>
        </p:nvSpPr>
        <p:spPr>
          <a:xfrm>
            <a:off x="1214280" y="2071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амоопыл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4788000" y="2133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Перекрестно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Прямоугольник с одним вырезанным скругленным углом 17"/>
          <p:cNvSpPr/>
          <p:nvPr/>
        </p:nvSpPr>
        <p:spPr>
          <a:xfrm>
            <a:off x="5143680" y="1357200"/>
            <a:ext cx="3500280" cy="4429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Box 4"/>
          <p:cNvSpPr/>
          <p:nvPr/>
        </p:nvSpPr>
        <p:spPr>
          <a:xfrm>
            <a:off x="571680" y="155880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может переносится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0FD17-E535-4044-A81D-99E7256081DE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Опыле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558360" y="2414520"/>
            <a:ext cx="183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секомыми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5"/>
          <p:cNvSpPr/>
          <p:nvPr/>
        </p:nvSpPr>
        <p:spPr>
          <a:xfrm>
            <a:off x="689760" y="30621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тицами       -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723600" y="39146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одой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676440" y="477216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етром         -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9" descr="птица"/>
          <p:cNvPicPr/>
          <p:nvPr/>
        </p:nvPicPr>
        <p:blipFill>
          <a:blip r:embed="rId1"/>
          <a:stretch/>
        </p:blipFill>
        <p:spPr>
          <a:xfrm>
            <a:off x="3562200" y="29862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вода"/>
          <p:cNvPicPr/>
          <p:nvPr/>
        </p:nvPicPr>
        <p:blipFill>
          <a:blip r:embed="rId2"/>
          <a:stretch/>
        </p:blipFill>
        <p:spPr>
          <a:xfrm>
            <a:off x="3562200" y="39006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ветер"/>
          <p:cNvPicPr/>
          <p:nvPr/>
        </p:nvPicPr>
        <p:blipFill>
          <a:blip r:embed="rId3"/>
          <a:stretch/>
        </p:blipFill>
        <p:spPr>
          <a:xfrm>
            <a:off x="3562200" y="4815000"/>
            <a:ext cx="1371600" cy="838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3" descr="пчела2"/>
          <p:cNvPicPr/>
          <p:nvPr/>
        </p:nvPicPr>
        <p:blipFill>
          <a:blip r:embed="rId4"/>
          <a:stretch/>
        </p:blipFill>
        <p:spPr>
          <a:xfrm>
            <a:off x="3571920" y="20718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5"/>
          <p:cNvSpPr/>
          <p:nvPr/>
        </p:nvSpPr>
        <p:spPr>
          <a:xfrm>
            <a:off x="5214960" y="155880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Box 16"/>
          <p:cNvSpPr/>
          <p:nvPr/>
        </p:nvSpPr>
        <p:spPr>
          <a:xfrm>
            <a:off x="5214960" y="2000160"/>
            <a:ext cx="3500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в хвойном лесу часто встречаются растения с белыми цветкам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очему у многих растений нектар спрятан в глубине цвет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Когда в Австралию завезли семена клевера и посеяли их, то клевер вырос, хорошо цвел, но плодов и семян у него не было. Почему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Прямоугольник с одним вырезанным скругленным углом 14"/>
          <p:cNvSpPr/>
          <p:nvPr/>
        </p:nvSpPr>
        <p:spPr>
          <a:xfrm>
            <a:off x="3857760" y="1143000"/>
            <a:ext cx="4786200" cy="328608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F60A-2BC5-4888-AE6A-2D4F9D580E71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Picture 3" descr="пыльцивая трубка"/>
          <p:cNvPicPr/>
          <p:nvPr/>
        </p:nvPicPr>
        <p:blipFill>
          <a:blip r:embed="rId1"/>
          <a:stretch/>
        </p:blipFill>
        <p:spPr>
          <a:xfrm>
            <a:off x="0" y="1071720"/>
            <a:ext cx="3794040" cy="578628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1"/>
          <p:cNvSpPr/>
          <p:nvPr/>
        </p:nvSpPr>
        <p:spPr>
          <a:xfrm>
            <a:off x="4000680" y="1214280"/>
            <a:ext cx="4714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Пыльца – совокупность пыльцевых зере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емязачаток – образование у семенных растений из которого развивается сем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Зародышевый мешок – особый «мешочек», из которого после двойного оплодотворения развивается зародыш-эндоспер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пермий – мужская половая клетка, передвигающаяся пассивн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Капля 12"/>
          <p:cNvSpPr/>
          <p:nvPr/>
        </p:nvSpPr>
        <p:spPr>
          <a:xfrm>
            <a:off x="2000160" y="5214960"/>
            <a:ext cx="71640" cy="14292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Капля 13"/>
          <p:cNvSpPr/>
          <p:nvPr/>
        </p:nvSpPr>
        <p:spPr>
          <a:xfrm>
            <a:off x="2000160" y="4643280"/>
            <a:ext cx="71640" cy="71640"/>
          </a:xfrm>
          <a:prstGeom prst="pie">
            <a:avLst/>
          </a:prstGeom>
          <a:solidFill>
            <a:srgbClr val="ff0000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Двойное оплодотвор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9B05-FC0F-4F30-896F-88E28E5D4059}" type="slidenum">
              <a:rPr b="0" lang="en-US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428760" y="1643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яйце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00040" y="27241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иго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73120" y="36608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образование зародыша                    образ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3741840" y="466884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4892760" y="1716120"/>
            <a:ext cx="424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Слияние одного из спермиев с центральной клетко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Oval 17"/>
          <p:cNvSpPr/>
          <p:nvPr/>
        </p:nvSpPr>
        <p:spPr>
          <a:xfrm>
            <a:off x="3452760" y="4595760"/>
            <a:ext cx="1800360" cy="936720"/>
          </a:xfrm>
          <a:prstGeom prst="ellipse">
            <a:avLst/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ем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Line 19"/>
          <p:cNvSpPr/>
          <p:nvPr/>
        </p:nvSpPr>
        <p:spPr>
          <a:xfrm>
            <a:off x="1868400" y="24354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Line 20"/>
          <p:cNvSpPr/>
          <p:nvPr/>
        </p:nvSpPr>
        <p:spPr>
          <a:xfrm>
            <a:off x="1868400" y="32274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Line 21"/>
          <p:cNvSpPr/>
          <p:nvPr/>
        </p:nvSpPr>
        <p:spPr>
          <a:xfrm>
            <a:off x="6550200" y="250812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Line 23"/>
          <p:cNvSpPr/>
          <p:nvPr/>
        </p:nvSpPr>
        <p:spPr>
          <a:xfrm flipH="1">
            <a:off x="5252760" y="416412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Line 25"/>
          <p:cNvSpPr/>
          <p:nvPr/>
        </p:nvSpPr>
        <p:spPr>
          <a:xfrm>
            <a:off x="2084400" y="4164120"/>
            <a:ext cx="1368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Прямоугольник 16"/>
          <p:cNvSpPr/>
          <p:nvPr/>
        </p:nvSpPr>
        <p:spPr>
          <a:xfrm>
            <a:off x="6720480" y="4000680"/>
            <a:ext cx="16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эндоспе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b6431"/>
                </a:solidFill>
                <a:latin typeface="Verdana"/>
              </a:rPr>
              <a:t>Плод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9" name="TextBox 4"/>
          <p:cNvSpPr/>
          <p:nvPr/>
        </p:nvSpPr>
        <p:spPr>
          <a:xfrm>
            <a:off x="642960" y="1214280"/>
            <a:ext cx="45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 стенок завязи образуется плод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018C-62D1-42A0-8B5A-1BC37BE13C3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Picture 2" descr="D:\All_f\Tema\Art\Nature\513002.JPG"/>
          <p:cNvPicPr/>
          <p:nvPr/>
        </p:nvPicPr>
        <p:blipFill>
          <a:blip r:embed="rId1"/>
          <a:stretch/>
        </p:blipFill>
        <p:spPr>
          <a:xfrm>
            <a:off x="3463920" y="3071880"/>
            <a:ext cx="4822920" cy="32115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D:\All_f\Tema\Art\Nature\513041.JPG"/>
          <p:cNvPicPr/>
          <p:nvPr/>
        </p:nvPicPr>
        <p:blipFill>
          <a:blip r:embed="rId2"/>
          <a:stretch/>
        </p:blipFill>
        <p:spPr>
          <a:xfrm>
            <a:off x="500040" y="1714680"/>
            <a:ext cx="49291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дачи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TextBox 4"/>
          <p:cNvSpPr/>
          <p:nvPr/>
        </p:nvSpPr>
        <p:spPr>
          <a:xfrm>
            <a:off x="642960" y="1214280"/>
            <a:ext cx="7715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оплодотворение цветковых растений называют двойны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ки вишни и цветки томата имеют по одному пестику. В плодах вишни развивается по одному семени, а в плодах томата по нескольку десятков. С чем это связано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американский ботаник Имс говорил, что «плод – это зрелый цветок»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 огурцов имеются пустоцветы – тычиночные цветки, которые не образуют плодов. Нужно ли их обрыват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вестны случаи, когда цветок дает плод и «без брака». Чего не бывает в таких плодах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81FB-2275-46BA-A0B7-50B607A2ED5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Прямоугольник с одним вырезанным скругленным углом 5"/>
          <p:cNvSpPr/>
          <p:nvPr/>
        </p:nvSpPr>
        <p:spPr>
          <a:xfrm>
            <a:off x="500040" y="1643040"/>
            <a:ext cx="6858000" cy="207180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Заключ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642960" y="1785960"/>
            <a:ext cx="68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не знал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и предположить не мог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 сих пор не укладывается в голове, чт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EE8-22CB-4F63-968F-0BDF25FB048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Дополнительная информац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1" name="Номер слайда 3"/>
          <p:cNvSpPr/>
          <p:nvPr/>
        </p:nvSpPr>
        <p:spPr>
          <a:xfrm>
            <a:off x="8001000" y="6111720"/>
            <a:ext cx="804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4C63-7676-4BAC-A59A-73279ED8FC96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2" descr="E:\Биология\2-19-3.jpg"/>
          <p:cNvPicPr/>
          <p:nvPr/>
        </p:nvPicPr>
        <p:blipFill>
          <a:blip r:embed="rId1"/>
          <a:stretch/>
        </p:blipFill>
        <p:spPr>
          <a:xfrm>
            <a:off x="4357800" y="1071720"/>
            <a:ext cx="4398840" cy="53323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5"/>
          <p:cNvSpPr/>
          <p:nvPr/>
        </p:nvSpPr>
        <p:spPr>
          <a:xfrm>
            <a:off x="642960" y="1071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ередование поколений у папоротник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57120" y="1643040"/>
          <a:ext cx="8429760" cy="3754440"/>
        </p:xfrm>
        <a:graphic>
          <a:graphicData uri="http://schemas.openxmlformats.org/drawingml/2006/table">
            <a:tbl>
              <a:tblPr/>
              <a:tblGrid>
                <a:gridCol w="4214880"/>
                <a:gridCol w="4214880"/>
              </a:tblGrid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Терм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Половое размно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а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Оплодотвор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Сперматозо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Зиг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514440" indent="-514440">
                        <a:buClr>
                          <a:srgbClr val="0d0d0d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Гермафр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Оплодотворенная яйце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Развитие новой особи из зиготы, образующейся в результате оплодотво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Муж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Слияние половых клет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Обоеполый организ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Е. Женская половая кл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Ж.Воспроизведение подобных с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. Половые кл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48" name="TextBox 4"/>
          <p:cNvSpPr/>
          <p:nvPr/>
        </p:nvSpPr>
        <p:spPr>
          <a:xfrm>
            <a:off x="571680" y="1214280"/>
            <a:ext cx="45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йди соответ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B9E0-2BC2-4A05-AC27-1819D3B6DCEE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Проверка домашнего задания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TextBox 4"/>
          <p:cNvSpPr/>
          <p:nvPr/>
        </p:nvSpPr>
        <p:spPr>
          <a:xfrm>
            <a:off x="642960" y="1214280"/>
            <a:ext cx="45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чало жизни, дорогие д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есут, конечно, половые клетки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авайте сформулируем вопро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о половые клетки и мейо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642960" y="2571840"/>
            <a:ext cx="81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ловая клетка несет ________ набор хромосом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игота имеет _________ набор хромосом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Box 7"/>
          <p:cNvSpPr/>
          <p:nvPr/>
        </p:nvSpPr>
        <p:spPr>
          <a:xfrm>
            <a:off x="642960" y="3714840"/>
            <a:ext cx="82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Мелкие, подвижные клетки с половинным набором хромосом называются яйцеклетк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ерматозоид несет большой запас питательных веществ, ведь именно он обеспечивает питательными веществами зародыш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Животных, у которых особи способны образовывать только сперматозоиды или только яйцеклетки, называют гермафродитам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642960" y="3286080"/>
            <a:ext cx="81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Исправь ошибку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Номер слайда 9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3FA4-2079-4D55-A970-C49D5AAFD0D9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4"/>
          <p:cNvSpPr/>
          <p:nvPr/>
        </p:nvSpPr>
        <p:spPr>
          <a:xfrm>
            <a:off x="571680" y="1500120"/>
            <a:ext cx="82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ли растения размножаться половым пут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143160" y="752400"/>
            <a:ext cx="4500720" cy="61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0" spc="-1" strike="noStrike">
                <a:solidFill>
                  <a:srgbClr val="a6a6a6"/>
                </a:solidFill>
                <a:latin typeface="Calibri"/>
              </a:rPr>
              <a:t>?</a:t>
            </a:r>
            <a:endParaRPr b="0" lang="en-US" sz="40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Изучение нового материал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Номер слайда 1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97AB-36C9-43BD-B41E-7F053293E40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Picture 2" descr="E:\Биология\2-19-1.jpg"/>
          <p:cNvPicPr/>
          <p:nvPr/>
        </p:nvPicPr>
        <p:blipFill>
          <a:blip r:embed="rId1"/>
          <a:stretch/>
        </p:blipFill>
        <p:spPr>
          <a:xfrm>
            <a:off x="3351240" y="1071720"/>
            <a:ext cx="5365800" cy="52149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428760" y="1571760"/>
            <a:ext cx="350028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зигота покрыта толстой оболочкой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ой набор хромосом у взрослой хламидомонады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428760" y="114300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Номер слайда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9EC9-DFC1-4646-BBC9-096CCD147317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4"/>
          <p:cNvSpPr/>
          <p:nvPr/>
        </p:nvSpPr>
        <p:spPr>
          <a:xfrm>
            <a:off x="5286240" y="1785960"/>
            <a:ext cx="3500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ему спирогира именно осенью размножается половым пут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ирогира может размножаться путем разрыва нитей на отдельные участки. Какое это размножени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357120" y="1357200"/>
            <a:ext cx="4889520" cy="478800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5286240" y="13572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Размножение водоросле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Номер слайда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1A24-C895-4828-A8CC-499686065C9D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Прямоугольник с одним вырезанным скругленным углом 6"/>
          <p:cNvSpPr/>
          <p:nvPr/>
        </p:nvSpPr>
        <p:spPr>
          <a:xfrm>
            <a:off x="571680" y="1357200"/>
            <a:ext cx="8072280" cy="1357560"/>
          </a:xfrm>
          <a:prstGeom prst="pie">
            <a:avLst/>
          </a:prstGeom>
          <a:solidFill>
            <a:srgbClr val="d9ead5"/>
          </a:solidFill>
          <a:ln w="42480">
            <a:solidFill>
              <a:srgbClr val="8ec1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«Черный ящик»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642960" y="150012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ящике находятся 2 объекта, имеющих отношение к новой теме. Один из них – орган размножения цветковых растений, а другой можно назвать результатом этого процесса. О чем идет речь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6AD9-0879-4C85-AB8E-204842E518A3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Куб 5"/>
          <p:cNvSpPr/>
          <p:nvPr/>
        </p:nvSpPr>
        <p:spPr>
          <a:xfrm>
            <a:off x="2357280" y="2928960"/>
            <a:ext cx="3429000" cy="2286000"/>
          </a:xfrm>
          <a:prstGeom prst="cube">
            <a:avLst>
              <a:gd name="adj" fmla="val 25000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780A-A30C-4318-91F1-62E1D6BA20E0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11" descr="цветок"/>
          <p:cNvPicPr/>
          <p:nvPr/>
        </p:nvPicPr>
        <p:blipFill>
          <a:blip r:embed="rId1"/>
          <a:stretch/>
        </p:blipFill>
        <p:spPr>
          <a:xfrm>
            <a:off x="3000240" y="1928880"/>
            <a:ext cx="5759640" cy="4032360"/>
          </a:xfrm>
          <a:prstGeom prst="rect">
            <a:avLst/>
          </a:prstGeom>
          <a:ln w="0">
            <a:noFill/>
          </a:ln>
        </p:spPr>
      </p:pic>
      <p:sp>
        <p:nvSpPr>
          <p:cNvPr id="278" name="TextBox 9"/>
          <p:cNvSpPr/>
          <p:nvPr/>
        </p:nvSpPr>
        <p:spPr>
          <a:xfrm>
            <a:off x="571680" y="1496880"/>
            <a:ext cx="81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Цветок – специализированный орган полового размножения растений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TextBox 10"/>
          <p:cNvSpPr/>
          <p:nvPr/>
        </p:nvSpPr>
        <p:spPr>
          <a:xfrm>
            <a:off x="571680" y="215748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азовите главные части цветка. Почему их так называют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4"/>
          <p:cNvSpPr/>
          <p:nvPr/>
        </p:nvSpPr>
        <p:spPr>
          <a:xfrm>
            <a:off x="428760" y="135720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точки зрения русского языка, тычинка – слово женского рода, а пестик – мужского. А с точки зрения ботани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C117F-181E-4B0F-923A-28CB5EBF22BB}" type="slidenum">
              <a:rPr b="0" lang="ru-RU" sz="28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Заголовок 1"/>
          <p:cNvSpPr/>
          <p:nvPr/>
        </p:nvSpPr>
        <p:spPr>
          <a:xfrm>
            <a:off x="428760" y="0"/>
            <a:ext cx="81835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6431"/>
                </a:solidFill>
                <a:latin typeface="Verdana"/>
              </a:rPr>
              <a:t>Строение цвет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10" descr="пестик"/>
          <p:cNvPicPr/>
          <p:nvPr/>
        </p:nvPicPr>
        <p:blipFill>
          <a:blip r:embed="rId1"/>
          <a:stretch/>
        </p:blipFill>
        <p:spPr>
          <a:xfrm>
            <a:off x="7500960" y="1928880"/>
            <a:ext cx="1249200" cy="1944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тычинка"/>
          <p:cNvPicPr/>
          <p:nvPr/>
        </p:nvPicPr>
        <p:blipFill>
          <a:blip r:embed="rId2"/>
          <a:stretch/>
        </p:blipFill>
        <p:spPr>
          <a:xfrm>
            <a:off x="7491240" y="4000680"/>
            <a:ext cx="1295640" cy="1511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642960" y="2809800"/>
          <a:ext cx="6381720" cy="1833480"/>
        </p:xfrm>
        <a:graphic>
          <a:graphicData uri="http://schemas.openxmlformats.org/drawingml/2006/table">
            <a:tbl>
              <a:tblPr/>
              <a:tblGrid>
                <a:gridCol w="3190680"/>
                <a:gridCol w="3191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Главные части цвет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тро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ыч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SzPct val="80000"/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. Рыльц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Б. Тычиночная н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. Столб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Г. Пыльцевой меш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. Завяз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  <p:sp>
        <p:nvSpPr>
          <p:cNvPr id="286" name="TextBox 10"/>
          <p:cNvSpPr/>
          <p:nvPr/>
        </p:nvSpPr>
        <p:spPr>
          <a:xfrm>
            <a:off x="428760" y="220176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Найди соответстви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5:10:46Z</dcterms:created>
  <dc:creator>Archie</dc:creator>
  <dc:description/>
  <dc:language>en-US</dc:language>
  <cp:lastModifiedBy>КарМаН</cp:lastModifiedBy>
  <dcterms:modified xsi:type="dcterms:W3CDTF">2012-04-24T19:46:13Z</dcterms:modified>
  <cp:revision>58</cp:revision>
  <dc:subject/>
  <dc:title>Слайд 1</dc:title>
</cp:coreProperties>
</file>